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CC5-F929-4983-AFA0-93CDDABA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D0C-0BBB-46D3-A48B-EE660B91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6FC-6DBE-4EBE-84C1-4259D55D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BFC-0548-4B2D-986C-3928A6BF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E12-46AC-462B-85D4-3D403929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D83-3ED1-4872-AE4C-C0CB577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4FE-0FA2-4F75-8FB9-C6F269A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88E-5FF3-494F-B34D-1601328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444-1123-45BB-8556-7E0F8FF1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D9A-CCB6-4B63-8609-FE6BC6E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576-8BC3-4757-90FD-0BC4647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69C-6149-41E7-9A6A-0C13BE4D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52D-0DF2-4F71-878E-A99E8524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y: Tristin Padg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1600200"/>
          <a:ext cx="4267080" cy="5116680"/>
        </p:xfrm>
        <a:graphic>
          <a:graphicData uri="http://schemas.openxmlformats.org/drawingml/2006/table">
            <a:tbl>
              <a:tblPr/>
              <a:tblGrid>
                <a:gridCol w="1071720"/>
                <a:gridCol w="1011240"/>
                <a:gridCol w="1009440"/>
                <a:gridCol w="1174680"/>
              </a:tblGrid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org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s.Bu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s.Rif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ar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a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hel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ris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yl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ary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la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mry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ly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ubr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i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lizabe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am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1055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970200"/>
                <a:gridCol w="970920"/>
                <a:gridCol w="970560"/>
                <a:gridCol w="1126440"/>
              </a:tblGrid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l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i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d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ls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i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y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cke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ud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812400" y="380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irls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ld you are the better your memory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ossible Applic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help you remember stuff so if you grow up to be a business person you remember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ssible Causes of Err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ctually trying to remember the pic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urther Resear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if boys are better than girls at mem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ime Sp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doctor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ionar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ig thanks to Mrs. Riff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the people I t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of the teachers that let me have part of thei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7400" y="0"/>
            <a:ext cx="264636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1905120"/>
            <a:ext cx="2884320" cy="223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895480" y="190512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181480" y="1905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4267080"/>
            <a:ext cx="3103560" cy="232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200400" y="41911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259680" y="4343400"/>
            <a:ext cx="28843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6232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59680" y="1981080"/>
            <a:ext cx="2884320" cy="216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3179880" cy="238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200400" y="19051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413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ffect does age have on memo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ason why I picked this is because everybody always says they can remember stuff really well. I wanted to see if that is actually true. So I’m testing everybody I 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most younger people are better at mem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ental faculty of retaining and recalling past experien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predict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t older are better at remember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of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r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 and fe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Look for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Get pictures off of the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ut the pictures on a poster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First test Junior Hig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Then test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Then test grade-school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Finally test the people at the m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See what age was the best for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Finally upload to bear cub sc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jor Observ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best at rea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93840"/>
          <a:ext cx="8229600" cy="6464160"/>
        </p:xfrm>
        <a:graphic>
          <a:graphicData uri="http://schemas.openxmlformats.org/drawingml/2006/table">
            <a:tbl>
              <a:tblPr/>
              <a:tblGrid>
                <a:gridCol w="2200320"/>
                <a:gridCol w="1906560"/>
                <a:gridCol w="1908000"/>
                <a:gridCol w="2214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r. Lam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ay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a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ry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leb L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ev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Lu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un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R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uc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aled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arr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al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a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ol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g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ya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ed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 out of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01:51Z</dcterms:created>
  <dc:creator>USD376</dc:creator>
  <dc:description/>
  <dc:language>en-US</dc:language>
  <cp:lastModifiedBy>USD376</cp:lastModifiedBy>
  <dcterms:modified xsi:type="dcterms:W3CDTF">2011-03-29T19:52:57Z</dcterms:modified>
  <cp:revision>8</cp:revision>
  <dc:subject/>
  <dc:title>Memory</dc:title>
</cp:coreProperties>
</file>